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71E-D744-4092-A3C1-36836148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488-D596-4DC5-8D35-40997F87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C6B-9371-43B6-8D84-CC743A97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CC3-8A94-4918-9E4B-09E285F9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FC11-CBF3-4E25-8CF9-C90AFDE5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3476-E945-40C3-8E36-9B731234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91D0-35CB-4754-93BE-682C7F1D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2586-602D-405E-B0FF-CD06A0A2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FBAD-B1D9-48F6-A9FD-6E24EE0A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225C-E2DF-4A5A-8AAC-6911BB4E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AA47-E6FA-4EFA-BA0D-61AD646F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ECA-13E6-4D00-96BA-77B8869C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AABB-0075-4633-A06A-7D31248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6124-D219-400F-A9CA-7FF09773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9864-5EBB-429D-AB12-D94E099F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C7B8-AF66-4BE3-AD15-F2AF59CA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D900-23AE-4DC0-9273-5358950C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CE7-0E81-40E5-88D6-63B144C0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9D5-FD86-4BFA-850B-E7B8F4BF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9FB-5FA9-42C1-AE16-8E853E5F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A80-411F-462A-A596-529107D0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459-2CDB-4C85-9C62-7A36CD55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D4C-9A27-4D3D-A115-E84C642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E95-DDE4-4662-BBD4-23602F7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176-15D7-4FB8-9F70-251A3E5E6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A796-8349-482A-98AF-BD51DA4AB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ventions of the Renaiss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notes as  you view the sl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en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ses were used for more than just eyegla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ileo used lenses to make an astronomical telescope to look at the stars and planets in 160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aac Newton made the first reflecting telescope in 1668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495680" cy="3305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60684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Muske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usket was the first usable rifle that soldiers could carry into bat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developed in Spain in the 1500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ould fire a metal ball that could seriously kill or hurt some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muskets were very large weighing 40 pounds and being over 6 feet lo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very hard to 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0" b="23172"/>
          <a:stretch/>
        </p:blipFill>
        <p:spPr>
          <a:xfrm>
            <a:off x="1295280" y="457200"/>
            <a:ext cx="678204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udd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vention of the rudder in the 1200’s greatly increased the control over steering a 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56200" y="202248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92640" cy="6350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02112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Flush Toile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ush toilet, or water closet as it was called dates back to 1589 when it was invented by Sir John Haring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ington invented a valve that when pulled would release water from a water closet. Sir John recommended flushing the toilet once or twice a day, although with our modern technology, we know that is probably not sufficient. (Rumor has it that, in Robin Hood's day, King Arthur - angry with how his brother ruled the country while the King was gone, named the toilet, 'the john' - aka as 'the jon' to you folks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930760" cy="4038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267080" y="1143000"/>
            <a:ext cx="35658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dding Mach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rench scientist, Blaise Pascal has been credited with inventing the very first digital calculator. In 1642, the 18-year-old Pascal, the son of a French tax collector, invented his numerical wheel calculator called the Pascaline, to help his father count tax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867280" cy="2532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601956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ldest surviving mechanical clock were made in the 1300’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alian scientist Galileo discovered the pendul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ade for better time keep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132520" y="2128680"/>
            <a:ext cx="3809880" cy="374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rmomet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ermometer was invented by Galile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1593 which, for the first time, allowed temperature variations to be measured. In 1714, Gabriel Fahrenheit invented the first mercury thermometer, the modern thermom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ometers measure temperature, by using materials that change in some way when they are heated or coo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54068" t="0" r="0" b="0"/>
          <a:stretch/>
        </p:blipFill>
        <p:spPr>
          <a:xfrm>
            <a:off x="3048120" y="914400"/>
            <a:ext cx="29448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bma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bmarine was invented in 1624 by a man named Cornelius van Drebb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onardo da Vinci drew out the basic concept of a submarine over one hundred years befo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bbel, a Dutch inventor and engineer employed by the British navy constructed a leather- covered rowboat from which oars protruded through watertight s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bbel's ship could stay underwater for a few hours, but it only went about fifteen feet under the surf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0" r="0" b="57798"/>
          <a:stretch/>
        </p:blipFill>
        <p:spPr>
          <a:xfrm>
            <a:off x="533520" y="380880"/>
            <a:ext cx="8153280" cy="4719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Mat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- our worst enemy, our best friend - was difficult to create until Robert Boyle invented the match in 168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fire could be made by rubbing sticks together or by striking flint to steel, this was a time consuming process. Boyle discovered that when phosphorus and sulfur were rubbed together, they would burst into fl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convenient, Boyle's matches were not very safe, because sometimes they accidentally went up in flames while in a pocket. (Warm surprise!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some improvements and a little fine tuning, this invention led to your modern safety match many years lat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52560" y="1519200"/>
            <a:ext cx="36324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ater clocks and hourglas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clocks and hourglasses were widely using in the 1500’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57760" y="194616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Watch (portable timepiece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rtable watch was invented by German Peter Henlein in 15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reated his watch to be spring powered making it much small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tch was a pocket watch. The wrist watch didn’t come into widespread use until the 1800’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00600" y="2971800"/>
            <a:ext cx="3898800" cy="325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530880" cy="4610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int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were the first to invent printing in 86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mid-1400’s, Johan Gutenberg of Germany invented a printing press using moveable 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books could be printed with greater speed and less eff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utenberg Bible is considered one of the first books ever prin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584520" cy="4316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444920" cy="553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yeglas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glasses were invented in the 1300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he invention of the printing press in the 1400’s, the demand for eyeglasses increa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-sighted glasses (for reading) were developed fir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r on near-sightedness was able to be corr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4826160" cy="312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365640"/>
            <a:ext cx="325116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6:02:38Z</dcterms:created>
  <dc:creator>Madison Middle School</dc:creator>
  <dc:description/>
  <dc:language>en-US</dc:language>
  <cp:lastModifiedBy>San Diego City Schools</cp:lastModifiedBy>
  <dcterms:modified xsi:type="dcterms:W3CDTF">2012-04-17T14:23:35Z</dcterms:modified>
  <cp:revision>28</cp:revision>
  <dc:subject/>
  <dc:title>Inventions of the Renaissance</dc:title>
</cp:coreProperties>
</file>